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4315320"/>
            <a:ext cx="84582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7521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43153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4560" y="43153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72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0360" y="1752120"/>
            <a:ext cx="272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0560" y="1752120"/>
            <a:ext cx="272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4315320"/>
            <a:ext cx="272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0360" y="4315320"/>
            <a:ext cx="272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0560" y="4315320"/>
            <a:ext cx="272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45820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27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4560" y="1752120"/>
            <a:ext cx="4127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733560" y="228600"/>
            <a:ext cx="510516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1752120"/>
            <a:ext cx="4127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43153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27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7521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4560" y="43153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752120"/>
            <a:ext cx="4127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4315320"/>
            <a:ext cx="84582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12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f12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4582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505b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0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505b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0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05b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0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05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0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05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0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0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0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05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6613560"/>
            <a:ext cx="27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© Copyright 2006, Health Systems Institu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f1200"/>
                </a:solidFill>
                <a:latin typeface="Arial Black"/>
              </a:rPr>
              <a:t>Engineering Healthcare Design</a:t>
            </a:r>
            <a:endParaRPr b="0" lang="en-US" sz="3000" spc="-1" strike="noStrike">
              <a:solidFill>
                <a:srgbClr val="6f1200"/>
              </a:solidFill>
              <a:latin typeface="Arial Black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304920" y="1371600"/>
          <a:ext cx="845820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371600"/>
                    <a:ext cx="84582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828720" y="1541520"/>
            <a:ext cx="80866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9:27:05Z</dcterms:created>
  <dc:creator>stephanie hudson</dc:creator>
  <dc:description/>
  <dc:language>en-US</dc:language>
  <cp:lastModifiedBy>David Z Cowan</cp:lastModifiedBy>
  <dcterms:modified xsi:type="dcterms:W3CDTF">2007-08-21T17:27:47Z</dcterms:modified>
  <cp:revision>250</cp:revision>
  <dc:subject/>
  <dc:title>Slide 1</dc:title>
</cp:coreProperties>
</file>